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12.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6.jpeg" ContentType="image/jpeg"/>
  <Override PartName="/ppt/media/image23.jpeg" ContentType="image/jpeg"/>
  <Override PartName="/ppt/media/image21.jpeg" ContentType="image/jpeg"/>
  <Override PartName="/ppt/media/image16.png" ContentType="image/png"/>
  <Override PartName="/ppt/media/image17.jpeg" ContentType="image/jpeg"/>
  <Override PartName="/ppt/media/image15.jpeg" ContentType="image/jpeg"/>
  <Override PartName="/ppt/media/image22.jpeg" ContentType="image/jpeg"/>
  <Override PartName="/ppt/media/image1.jpeg" ContentType="image/jpeg"/>
  <Override PartName="/ppt/media/image9.jpeg" ContentType="image/jpeg"/>
  <Override PartName="/ppt/media/image24.jpeg" ContentType="image/jpeg"/>
  <Override PartName="/ppt/media/image3.jpeg" ContentType="image/jpeg"/>
  <Override PartName="/ppt/media/image2.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5" name="PlaceHolder 2"/>
          <p:cNvSpPr>
            <a:spLocks noGrp="1"/>
          </p:cNvSpPr>
          <p:nvPr>
            <p:ph type="dt" idx="7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1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8" name="PlaceHolder 5"/>
          <p:cNvSpPr>
            <a:spLocks noGrp="1"/>
          </p:cNvSpPr>
          <p:nvPr>
            <p:ph type="ftr" idx="7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9" name="PlaceHolder 6"/>
          <p:cNvSpPr>
            <a:spLocks noGrp="1"/>
          </p:cNvSpPr>
          <p:nvPr>
            <p:ph type="sldNum" idx="7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6F4A-28D0-4880-8FB5-3A5651FEC5A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Tetradrachm" TargetMode="External"/><Relationship Id="rId2" Type="http://schemas.openxmlformats.org/officeDocument/2006/relationships/hyperlink" Target="http://en.wikipedia.org/wiki/Hellenistic_period"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44DB-7439-40E7-8E7A-4852B043DF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west, Parnes to the north, Pentelikon to the northeast, and Hymettus to the east. Most are of limestone or marble, from which the ancient buildings of the city were constru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ity is on the Ilissus River, which is dry for much of the year and carries abundant water only after winter storms. Athens has a typical Mediterranean climate, with hot, dry summers and mild winters. Rainfall is slight</a:t>
            </a:r>
            <a:endParaRPr b="0" lang="en-US" sz="1200" spc="-1" strike="noStrike">
              <a:solidFill>
                <a:srgbClr val="000000"/>
              </a:solidFill>
              <a:latin typeface="Calibri"/>
            </a:endParaRPr>
          </a:p>
        </p:txBody>
      </p:sp>
      <p:sp>
        <p:nvSpPr>
          <p:cNvPr id="1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A4CDD-65C9-4934-A826-FF097F7BE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entral events of the Athenian democracy were at the Assembly meetings. Assembly's members were not elected, but attended by right when they chose. The assembly had four main functions; </a:t>
            </a:r>
            <a:r>
              <a:rPr b="1" i="1" lang="en-US" sz="1100" spc="-1" strike="noStrike" u="sng">
                <a:solidFill>
                  <a:srgbClr val="000000"/>
                </a:solidFill>
                <a:uFillTx/>
                <a:latin typeface="Calibri"/>
              </a:rPr>
              <a:t>it made executive pronouncements (decrees, such as deciding to go to war or granting citizenship to a foreigner); it elected some officials; it legislated; and it tried political crimes</a:t>
            </a:r>
            <a:r>
              <a:rPr b="0" lang="en-US" sz="1100" spc="-1" strike="noStrike">
                <a:solidFill>
                  <a:srgbClr val="000000"/>
                </a:solidFill>
                <a:latin typeface="Calibri"/>
              </a:rPr>
              <a:t>.  general vote (usually by show of hands) of yes or no. Though there might be blocs of opinion, sometimes enduring, on crucial issues, there were no political parties and likewise no government or opposition (as in the Westminster System). In effect, the government was whatever speaker(s) the assembly agreed with on a particular day. Voting was by simple majority (as per a show of hand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juries were selected by lot from a panel of 600 jurors, there being 600 jurors from each of the ten tribes of Athens, making a jury pool of 6000 in total. In a public suit the litigants each had three hours to speak, much less in private suits (though here it was in proportion to the amount of money at stake). Decisions were made by voting without any time set aside for deliberation. Jurors did talk informally amongst themselves during the voting procedure and juries could be rowdy, shouting out their disapproval or disbelief of things said by the litigants. This may have had some role in building a consensus. The jury could only cast a 'yes' or 'no' vote as to the guilt and sentence of the defendant. For private suits only the victims or their families could prosecute, while for public suits anyone could bring a case since the issues in these major suits were regarded as affecting the community as a whole.</a:t>
            </a:r>
            <a:endParaRPr b="0" lang="en-US" sz="1100" spc="-1" strike="noStrike">
              <a:solidFill>
                <a:srgbClr val="000000"/>
              </a:solidFill>
              <a:latin typeface="Calibri"/>
            </a:endParaRPr>
          </a:p>
        </p:txBody>
      </p:sp>
      <p:sp>
        <p:nvSpPr>
          <p:cNvPr id="1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A212-EC24-461E-AE9B-B8F33E250A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aves belonged to their master's household. A newly-bought slave was welcomed with nuts and fruits and Slaves took part in most of the civic and family festivals. slaves were relegated to house chores and could never attain citizen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 Middle, Lower and Sla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d olives, pottery, jewel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sed a 5% tax on their ports  </a:t>
            </a:r>
            <a:endParaRPr b="0" lang="en-US" sz="1200" spc="-1" strike="noStrike">
              <a:solidFill>
                <a:srgbClr val="000000"/>
              </a:solidFill>
              <a:latin typeface="Calibri"/>
            </a:endParaRPr>
          </a:p>
        </p:txBody>
      </p:sp>
      <p:sp>
        <p:nvSpPr>
          <p:cNvPr id="1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EBC7-F1FF-4D5C-A1DB-A39E2ED12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a:t>
            </a:r>
            <a:r>
              <a:rPr b="1" lang="en-US" sz="1200" spc="-1" strike="noStrike">
                <a:solidFill>
                  <a:srgbClr val="000000"/>
                </a:solidFill>
                <a:latin typeface="Calibri"/>
              </a:rPr>
              <a:t>Theater of Dionysia (Dionysus)</a:t>
            </a:r>
            <a:r>
              <a:rPr b="0" lang="en-US" sz="1200" spc="-1" strike="noStrike">
                <a:solidFill>
                  <a:srgbClr val="000000"/>
                </a:solidFill>
                <a:latin typeface="Calibri"/>
              </a:rPr>
              <a:t>, named after the god of wine, one of the greatest events of the year was performed. It was a religious festival held in honor of the gods. For ten days, Athenians filled the theatre to watch plays performed by their favorite poets and playwrights. They consisted of either three tragedies or three comedies followed by a short satyr farce. The actors were all men. Women were not allowed to participate. They wore large masks and elaborate costumes while performing both male and female roles. The cost for entrance to the theatre was two </a:t>
            </a:r>
            <a:r>
              <a:rPr b="0" i="1" lang="en-US" sz="1200" spc="-1" strike="noStrike">
                <a:solidFill>
                  <a:srgbClr val="000000"/>
                </a:solidFill>
                <a:latin typeface="Calibri"/>
              </a:rPr>
              <a:t>obols.</a:t>
            </a:r>
            <a:r>
              <a:rPr b="0" lang="en-US" sz="1200" spc="-1" strike="noStrike">
                <a:solidFill>
                  <a:srgbClr val="000000"/>
                </a:solidFill>
                <a:latin typeface="Calibri"/>
              </a:rPr>
              <a:t> Those who did not have the money to pay were allowed in at no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9F39-B7CD-401F-8065-EE7E26DFB6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medes, Pythagor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apults and pulleys are similar technolo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ks developed extensive silver mines at Laurium, the profits from which helped to support the growth of Athens as a city-state. It involved mining the ore in underground galleries, washing the ores and smelting it to produce the metal. Elaborate washing tables still exist at the site using rain water held in cisterns and collected during the winter mon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9B20-8FF6-4BFA-87EC-E8FEA0DB4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legend, Athena, the goddess of wisdom and war, had a contest with Poseidon, the god of the seas, for ownership of Athens. Athena won the contest and became the patron goddess of the 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widespread areas of the underworld was known as Hades. This was ruled over by a god, a brother of Zeus, who was called Hades (his realm was originally called 'the place of Hades'). Another realm, called Tartarus, was the place where the damned were thought to go, a place of torment. A third realm, Elysium, was a pleasant place where the virtuous dead and initiates in the mystery cults were said to dwell. The underworld commonly featured in mythology and literature based thereup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zens of Festivals to the gods, however human sacrifices are r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D9CC-8123-4E87-9B8D-B742ABD40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egeus hid his sword and sandals under a rock, and said that when Theseus was strong enough to lift the rock, he would bring the things to his father for recognition. When Theseus was only 16 he lifted the rock and headed off for Athens. On his way he went through many adventures. He ensured the safety of the Greek city states by killing minotaur's and bandits around the countryside. Theseus united Athens under one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on became archon (Monarchy) and began democratic refor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AD53-94F6-4844-BFD1-391CEC794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9FBF-477D-4858-A20C-BE4B9A88A9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y rebuilt or expanded upon at least nine t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end of the Trojan war, it is recorded that the victors burnt Troy down to the ground. However, that time is often disputed by many different sources which results in the variation in the end date of the city of Tro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me rebuilt the city of Troy, in a different area but it never seemed to match its past achievements</a:t>
            </a:r>
            <a:endParaRPr b="0" lang="en-US" sz="1200" spc="-1" strike="noStrike">
              <a:solidFill>
                <a:srgbClr val="000000"/>
              </a:solidFill>
              <a:latin typeface="Calibri"/>
            </a:endParaRPr>
          </a:p>
        </p:txBody>
      </p:sp>
      <p:sp>
        <p:nvSpPr>
          <p:cNvPr id="1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965C-4362-45AB-880B-B8D37AD09B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rn Day West Coast of Tur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ed on the areas linking the Aegean Sea and Black S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y probably used its site astride these two lines of communication to exact tolls from trading vessels and other travelers using them. This practice probably accounted for the wealth of ancient Troy; it may also have been the Greeks' actual motive in waging war against the city, which chronically interfered with their trade through the Dardanelles. </a:t>
            </a:r>
            <a:endParaRPr b="0" lang="en-US" sz="1200" spc="-1" strike="noStrike">
              <a:solidFill>
                <a:srgbClr val="000000"/>
              </a:solidFill>
              <a:latin typeface="Calibri"/>
            </a:endParaRPr>
          </a:p>
        </p:txBody>
      </p:sp>
      <p:sp>
        <p:nvSpPr>
          <p:cNvPr id="1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A2B9-2072-4EDD-8E61-AD07997457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ived under the rule of King Priam, the Monarch who was in power during the Trojan War. </a:t>
            </a:r>
            <a:endParaRPr b="0" lang="en-US" sz="1200" spc="-1" strike="noStrike">
              <a:solidFill>
                <a:srgbClr val="000000"/>
              </a:solidFill>
              <a:latin typeface="Calibri"/>
            </a:endParaRPr>
          </a:p>
        </p:txBody>
      </p:sp>
      <p:sp>
        <p:nvSpPr>
          <p:cNvPr id="1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8DD9-55B9-4042-8325-90B296D99C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ver </a:t>
            </a:r>
            <a:r>
              <a:rPr b="0" lang="en-US" sz="1200" spc="-1" strike="noStrike" u="sng">
                <a:solidFill>
                  <a:srgbClr val="0000ff"/>
                </a:solidFill>
                <a:uFillTx/>
                <a:latin typeface="Calibri"/>
                <a:hlinkClick r:id="rId1"/>
              </a:rPr>
              <a:t>tetradrachm</a:t>
            </a:r>
            <a:r>
              <a:rPr b="0" lang="en-US" sz="1200" spc="-1" strike="noStrike">
                <a:solidFill>
                  <a:srgbClr val="000000"/>
                </a:solidFill>
                <a:latin typeface="Calibri"/>
              </a:rPr>
              <a:t> from Troy during the </a:t>
            </a:r>
            <a:r>
              <a:rPr b="0" lang="en-US" sz="1200" spc="-1" strike="noStrike" u="sng">
                <a:solidFill>
                  <a:srgbClr val="0000ff"/>
                </a:solidFill>
                <a:uFillTx/>
                <a:latin typeface="Calibri"/>
                <a:hlinkClick r:id="rId2"/>
              </a:rPr>
              <a:t>Hellenistic period</a:t>
            </a:r>
            <a:r>
              <a:rPr b="0" lang="en-US" sz="1200" spc="-1" strike="noStrike">
                <a:solidFill>
                  <a:srgbClr val="000000"/>
                </a:solidFill>
                <a:latin typeface="Calibri"/>
              </a:rPr>
              <a:t>, 188–160 BC. Head of Athena in Attic helmet. Reverse female figure and owl with inscription: </a:t>
            </a:r>
            <a:endParaRPr b="0" lang="en-US" sz="1200" spc="-1" strike="noStrike">
              <a:solidFill>
                <a:srgbClr val="000000"/>
              </a:solidFill>
              <a:latin typeface="Calibri"/>
            </a:endParaRPr>
          </a:p>
        </p:txBody>
      </p:sp>
      <p:sp>
        <p:nvSpPr>
          <p:cNvPr id="1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BFC03-EFFB-42A9-8AFE-E4BA8B8B61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the influence of the East began to take hold and a new sort of civilization began to develop, characterized most obviously by stone fortifications on various hilltops with clusters of farms and merchants in the surrounding area. These citadels were serviced by new crops like olives and grapes, there was new technology for the creation of hard metals, and new animals grazing in the pastures. </a:t>
            </a:r>
            <a:endParaRPr b="0" lang="en-US" sz="1200" spc="-1" strike="noStrike">
              <a:solidFill>
                <a:srgbClr val="000000"/>
              </a:solidFill>
              <a:latin typeface="Calibri"/>
            </a:endParaRPr>
          </a:p>
        </p:txBody>
      </p:sp>
      <p:sp>
        <p:nvSpPr>
          <p:cNvPr id="1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037B-E4C3-4D4A-AEC4-189A23FA4C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4192E-8BF8-40F1-A8B4-42D2BAA56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1554E-35BB-4F92-9EF2-E82BD7884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7032C9-A323-438B-BCF3-F0505FF854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CDB432-BCB1-4B47-BAAF-715196120E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221CE4-CB6B-4DEA-9763-76E2F1A9A9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41A8E5-D74A-497F-B242-717C034611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000BCD-C9DA-4204-A3F1-C73E68C74D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3FD00A-5D41-46A2-B601-95167C1560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470DCC-DC8A-48FD-AA7F-1E5587B9BD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D4C238-27E3-4237-9BB0-E60216510A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C6FCD7-EAB9-4AE9-B6A1-70CB7461A8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DA7C81D-189E-4B3D-BE0D-85D3A3C6EF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EEAE3-381D-42B8-9BD5-658799E1C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C3DC0D-EA9F-4144-91E6-AE1C9D1E6B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ADFF4C-BFEA-4309-922B-220A74609B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B5C12B-C7B1-4FA8-9682-A836B3A0E6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460812C-6055-413D-88E5-5DD16E563C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FA1697-23BD-4BD6-ABC2-36FC46EF22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E403BF-4BF1-41DE-993A-5C96B947C6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21DC5D-A6FA-4CB7-AEF6-A92FE89762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F6F3A9-8D11-4F81-B208-C0E7A43BE0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B6D6F7-DD01-4FC2-9242-FCA0753A45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AEF919-99A2-47DD-B1E1-2CF381C78E9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55A6E-B436-4654-8F87-549C97EB1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863EABD-97E3-4817-856F-EA4BF1A4EB1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DC3D1BF-5E37-4814-8A06-768305A8325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90F79B-8058-4F39-8EA1-C937FCE6D3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FF6A3A-45AE-446C-AEA3-ECE99987D3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EDEE25-C225-4EA0-8C9B-9FF6A008FE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5E1CBB-501E-47AB-BA28-7C8E7EA1DD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1BEA8E-E055-415B-9374-5A768C9471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CDB42C-C6D7-4982-B27F-F5DFF20064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FF7158-3CF3-4BD1-9181-36EE5A213A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C30EF9-7E65-4BC8-9714-C959B40349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32C1C-6978-4202-A3E8-941B777C1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BA09C8-C9F1-42D3-AD9A-78DFFE6928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62C3189-87DE-4E6F-AFD7-7C182119050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C1CBE3-84A5-4870-830E-7B3B7F097BE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6DDFB81-CE98-4217-863A-2F901ED62A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AF47EFE-F3D3-419F-81AA-6AA314CCC5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00BA605-D53D-40B6-B516-80C86AB36F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0000B90-0DA4-419A-86FB-6A79A93BFC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CAC96A5-27B4-4BC4-BDCB-48E489032D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2D95629-F1D6-4331-AE22-A0BC3B18A4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E90B633-79CB-4F55-99D1-9310B94257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6BA29-41BA-4206-9242-10DE66943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67078FD-82B0-43AC-A8FF-F538DACA85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6C6F043-5914-49A7-92E4-343B23AE1B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EF3FF5C-860F-4642-8EA1-FD839BCE41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BDE8CCD-0F47-4D24-AA72-71DE978602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6EC25D0-04BB-45F3-82EF-DA0F96BCFA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7"/>
          </p:nvPr>
        </p:nvSpPr>
        <p:spPr/>
        <p:txBody>
          <a:bodyPr/>
          <a:p>
            <a:fld id="{3D5F38B3-8337-46C1-93C6-530404A7FE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FCD03050-1A21-46AE-9925-3C49A530F2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7"/>
          </p:nvPr>
        </p:nvSpPr>
        <p:spPr/>
        <p:txBody>
          <a:bodyPr/>
          <a:p>
            <a:fld id="{9BB3298A-FE95-427A-9E7A-711C6F0E20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781B9C14-F538-4436-B09F-48DA99AA28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52C93D2D-8388-4BC4-857D-4398A56D29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16C67-388E-471B-A9EE-116C9EED5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7"/>
          </p:nvPr>
        </p:nvSpPr>
        <p:spPr/>
        <p:txBody>
          <a:bodyPr/>
          <a:p>
            <a:fld id="{EDA33CA8-35A4-45F8-99BF-7915F10702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01B7B2E3-4F2A-4FA4-B3B2-45CF7BFB5B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B0BB9786-AC67-40D7-9EFF-56F9DBEB6A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7"/>
          </p:nvPr>
        </p:nvSpPr>
        <p:spPr/>
        <p:txBody>
          <a:bodyPr/>
          <a:p>
            <a:fld id="{E026ECEF-9804-49E5-BA7C-29BC9C59CE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7"/>
          </p:nvPr>
        </p:nvSpPr>
        <p:spPr/>
        <p:txBody>
          <a:bodyPr/>
          <a:p>
            <a:fld id="{31D7D666-5B01-41A7-A543-7E5B7BDC94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7"/>
          </p:nvPr>
        </p:nvSpPr>
        <p:spPr/>
        <p:txBody>
          <a:bodyPr/>
          <a:p>
            <a:fld id="{6E62DE34-8998-465A-BF6B-32565B28AD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7"/>
          </p:nvPr>
        </p:nvSpPr>
        <p:spPr/>
        <p:txBody>
          <a:bodyPr/>
          <a:p>
            <a:fld id="{5FF2D628-1726-4B39-A608-E3F4484164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257FF74-50DB-497F-B89D-177DB4DE5D0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A1DAF87-7A27-4A24-AD4D-8E9572BA521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0F1E776-BB70-4B8E-8F44-E87D6EDE70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02CB2-144D-455D-B0D5-758763750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5C49BB5-C8CF-404E-9044-69A01277E0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FB9A3C-2F17-4224-9F40-61B2B5C876C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969E19D-8357-41E9-93FC-5B76D01A3CF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CAD0D52-9FAC-41B8-93BC-C3286D2334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26894DE-2E34-4054-8489-7B72F8A37B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7360EF-0BCF-424F-9CD4-D8265418A2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7B5BD08-449C-4BEA-A44B-FE903E03C1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58489CF-FB3C-41ED-8BA2-A82D32CC3E0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6AFF1F2-D841-4E8A-8A1B-3080C6798E9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3"/>
          </p:nvPr>
        </p:nvSpPr>
        <p:spPr/>
        <p:txBody>
          <a:bodyPr/>
          <a:p>
            <a:fld id="{A018C0A0-EC44-4B0D-BEB7-7D50DD8AFF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658CD-E8E4-4FA5-A062-F2D1F5492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F850EDAD-8ECB-4A44-AE30-70684ABB3A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E549EAFB-2EAC-404E-B401-67649AF7DF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CCEE8F91-5606-42B7-BB13-B0D97A38E2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214438F3-6ED8-4D22-9AFC-36CA26C8BF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D8546030-F26F-47AF-8F86-44520A5D93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7E2049AB-EBE6-4DE2-81C3-0D25D35958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6E449477-CCA0-434A-824B-1B7A33FF5A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5BC2BA84-76C5-43C6-92B1-AC2BC84FBD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EE16F1A9-0141-44CD-B9C7-3ABA5D631E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3"/>
          </p:nvPr>
        </p:nvSpPr>
        <p:spPr/>
        <p:txBody>
          <a:bodyPr/>
          <a:p>
            <a:fld id="{80990F16-014B-4EF8-9AA0-71D9768C50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F7F93-A409-4DC2-BAB2-3C4521CE4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3"/>
          </p:nvPr>
        </p:nvSpPr>
        <p:spPr/>
        <p:txBody>
          <a:bodyPr/>
          <a:p>
            <a:fld id="{6B645DC6-97B8-4885-80B6-9FF29A2EB8F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9C95EC8-CF96-4249-8E68-0F09BC36C24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FE5EF46-FB2C-46B7-93DA-6CF92722FAD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1A3629C-6018-4A56-A56C-2996087FC43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53A7E3D-E544-4126-A778-FF6418012DC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9CBBE64-12F3-43F1-90EB-51CEFC38DBA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1574906-255D-498E-8390-761996950DB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EC0B2F2-0087-40BA-918E-A4DB1DFF5C5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671F557-2561-487F-BA28-B55FFE8DB16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AF973CD-3D10-4962-8E91-77C168D65B2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FF088-D56F-40F8-BF66-CF7CE99EE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701178D-21C9-48CE-992E-D6A32D8BC4D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D1222F8-6930-4A5E-A49B-DCF67B1B4C9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4DFCF93-E49A-4D7F-B4B8-2AAE026016F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DC14D86-91F5-4B7D-AE91-CF5ED140E5A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46C3785-1698-4055-8032-10B9267988F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80A32ED-A52C-403F-89A8-C1BA20F1675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49A27CD-4BE6-4EE4-894C-5FFB4C2D64F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401C021-4EA2-489C-8BBA-DD1563B2019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D44021F-4717-405F-8D62-C66FCF894B8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2E3F90C-9F33-4578-903D-83F198980A9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33F8F-BBE5-47D5-AE06-1A7F3491A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17BAC-D215-4022-84FA-3BB2E243C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558D5BE-7205-4FD7-9CE1-4442C70A57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7007C57-D278-4FAB-9E5C-87D6077A036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38B6107-F56F-400B-AF68-CCBB71537A7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655435A-A91A-4E83-A574-3BC986DCCFF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FEC51D6-99EA-4D5F-BCE2-4F7F54F2628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E51C99E-1FA7-4FE8-9F1E-1B73963EE1C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20E6BCF-DF15-4413-A9EE-BBB2CD8F707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1DBABF5-D15B-431F-B6D7-EB123FBEBA0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FC70A7F-6A68-4E01-AAAB-F6C54D11F14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F9E2F92-8BFB-4FF6-A68B-84D352967C6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A832E-C796-42CC-B4DA-1805BE9F1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70D8EF1-FF13-4657-9E39-20B6276BDA0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9882A88-908A-4071-BD2E-D8F335D41CE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97D8AFC-342C-4CC5-AF56-1BEADD81F21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268AD4F-94BF-428C-A61D-74442A2320F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167D5BD-D0CC-4E10-B860-D7C3FC50475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C09EE22-5E34-4332-8A96-8381629972F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F6EAA2E-9BC9-4F0B-800C-75BE9C5B74A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9ABD6F1-21EE-4DBE-AB48-7CFDA0819DC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E08EEB3-DDC2-4762-925C-5FA229DC73E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B86A570-9B07-491E-9704-0E3A1C326C4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F538C-488D-4C61-B52E-8049CD04C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29D13D8-3ABC-479D-939F-9F4465892C5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CC2C498-277F-4839-914C-7B716836271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06461C0-8EAE-41A4-8A77-65AAB2AFA42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973184A-A63C-4CBF-8144-FC7322A19B0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D44B0FC-A65D-43E3-9671-B4285E34889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8FA2F13-C218-4715-89C8-0745A6075B7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8AA0C10-3C35-4293-BEC7-AB3CF93ED74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4E220A3-0B6B-42B9-BAF2-56661BC64F7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F7A5BE0-C6B5-4993-872C-6A06E4BF9B0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C471BEA-20B4-45E3-A5E8-C396E3D41CB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9679E-BC13-4CF6-82E2-D9A7228690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023F975-0940-4D81-8887-C9B928BF045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9629C4E-C02F-4C60-A8B6-B4C864F851E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FB64E92-92BD-4302-A9F9-8C7EEB78DDA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BE0D287-FAFD-4109-B317-83FF1745961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B08BD3D-FA74-4886-805B-58632EAC979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97C145B-3E47-4CBF-98D0-077386A5857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DBA50CC-3255-4E37-AA0A-38BA90529A1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1CF97CB-3286-4E16-86E3-0A8E4F9821F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D818DCC-FCC4-4E78-884F-C5EC131E1D9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F4E6C367-6987-42AF-B9E5-92E06477FAC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859A4-C167-46B9-8D3A-3EE16EA252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A8BC122-1714-420C-BB93-6BA46E67725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BCB2993-65E6-4BA3-8E9A-001E05DA95B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86FFE19-7625-4933-8C77-ED23BB03B8F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93941DE-B819-454F-BEB3-89194C51698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8A3E281-1CAC-483E-BB05-6E95890A065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AC57509-4952-4DF4-876F-2616D5EF577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FF1660C-9487-4B71-B837-CA8D8C7AB4B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E22997F-D33A-4209-BD24-5CC9CE1F852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70CBF1A-8A10-455D-9408-60D2116EF65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9DEE3FF-4C37-4B39-8539-E8FE129F87D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14280A-3BD8-40B6-A537-EBB6075443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56A37F9-DE37-48D7-A010-6ABBF2ADBD3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D8A91D7-9C8F-47D8-8FB4-8D38B736BE4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012A69C-9B45-430B-BAAC-528BFE51A6D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4306D06-C6D5-4B0A-A590-E1B84076D57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F194FAF-D1B7-4E96-A97F-42AF740D3B7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27E5924-D7FD-4533-8B8D-6B19B3DC0A9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36FBDC4-36D9-4CAA-B5EC-7854207E452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83BA10A-09D7-4ABE-8E0D-F7B23245949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EDE5F58-7A72-4F7D-A13F-721C8E5F6D2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49E5228-E8B9-4D5B-B8F4-CFC187B2BBA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DE8B11-77F0-4E6F-9685-29B1B4DB8C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1CC057F-201F-444E-BD74-E5574412154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580647D-5A6F-43BF-89AD-88A1B9A5A27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6F2E87F-930E-4455-8801-C08B7D8B6CD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1F3EFC8-41BE-46DE-947F-5ACCFB6B8A66}"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5EBDB7C-FC49-4540-83A9-188D36BA499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BFB0694-9DC6-4B43-B4C9-F36B04DBC6A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9FC5281-F417-4521-B245-F02F306325B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F6E486A-ABD6-4E0E-99AC-13F349DE8A1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D0EAB12-3774-40C1-BA79-EE07B64114B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7E491A8-DEF0-4AC1-9E8B-6FD8A9588F0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32DB2C-3201-4197-8141-5A421DAB49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383E9B8-9C6F-437B-8DF9-83BD02B8744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43AFBB3-7AC8-4525-B9EF-B74597972BD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74350BF-EE49-4C58-8BCE-2D4A41E4A86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6767551-F14B-406B-B3A4-120CBE26AEC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631507B-017B-4D02-9130-687F6B51384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28F5D1E-0EB9-4107-BD17-17563E7FDCD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5B3CA12-45A0-4C8F-A32C-4C9016E433EE}"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A570E5-A7F6-4A1C-806E-903D98C5CD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E6D53B-4668-494B-B250-B51C6133BD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2C68B-14C2-4860-8BC0-1E7725EB8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B2F7F6-E2A5-4561-9862-2E985CC757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9328FD-5D88-4E46-88CC-5BB4694FF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00AF37-D678-4E3D-99BD-08F686E326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8E3071-16AD-476E-B982-8D3FE973E6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54F9E1-E5F1-4596-99DA-122740A20A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581E54-A280-449A-B43D-31B9B80C00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642762-3658-4CC2-9142-F3E53ECBA1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CE2FF0-B7D2-4830-BD79-2386A5C176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ABCD98-248E-4ED3-9FB0-A305FC6322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A96128-4699-4C4F-88C5-9C35D2A969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EACC6-E7F6-447B-B310-DA6356557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A111AD-F8D9-494A-8907-2CE93EF3DB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760B3E-7EF1-4071-907F-9FB3FB91A6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4A59FA-91A0-439A-849B-CA95E4F9D4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67514B-16EF-462C-8871-A61137A30F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9378D-5B41-48CE-8546-CEB6331381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5BDF49-B93B-42AC-A63A-8F747EC3D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19AB13-05F6-40E3-B5AA-8F7BB3FE52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097DCB-68AA-4F32-85F6-830A5852B0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0B789C-BDD4-4529-866C-B2E26F176B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774D59-AFAB-4978-9547-AEB300AC26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389D9-8239-44EE-8574-D8202732F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5EF511-A492-46CE-AB60-A2C761B6E0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AE4057-D77A-4FC0-BB1E-B038995601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4996D2-07E8-4D81-AE76-8F2CCA0911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32FCC1-8891-4CAC-9347-E9B98B6712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56CFE2-BD50-406B-A628-95EFA7DD0C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5CBD9B-1C68-45A6-906C-2C6EA6D06E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CF17DF-A5B4-40BE-85F0-879D3B855C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9FCA0-D7D8-4D9D-A022-ECB0E41F5C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1DC800-3EAE-487C-8409-4E044922BB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CE8B75-9E7C-49BE-B5ED-ED1860DF4B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C6225-A8D9-47D2-BF9D-CD58A3598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76E640-0B41-4212-8CB7-C403BE0F6D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7DD090-FD3F-47C7-9AAC-CB5E8F2DE3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28FB62-BD21-4B0D-B88F-B7BF6CAAD4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927AA4-081B-4052-88F5-DBE30E2064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3D2D3C-EFCE-4BED-B858-BDABDCE8B2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CA6375-F672-4159-9E3F-FA1D3C8DEC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DC0675-D742-4F97-9D04-6F245A5167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DED80F-A942-4CBE-B558-5F25D69E01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008F92-2542-482A-A627-6934CC6905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C261F6-369A-4F58-9369-384B2669D5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4BFB6-3B0E-44DF-A998-1AF3861E6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7C3814-AA0D-48C1-AD77-3432116CB9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E8AFF9-8592-4CFE-872F-372DADF2A9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24E837-0475-4E4A-B31E-C11A379B0C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C8F2F788-FB4D-46D4-8C8E-CD8CE4E57C1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C8320C5D-D169-4FF7-B4B5-C76E43D21C3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BA078C05-AFCC-45C5-A138-C639B958802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3D7E3AF1-6B65-4DF5-AF80-37EC572B1EB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AE750B46-F0DE-48E3-A507-674F716AD6B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21B0B782-A2AA-4FB8-A11C-5DF58A6FE20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890A09FA-E406-4383-8D90-7BC1DBB303F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09B8D-DF1E-41BD-A6E3-26093AD1D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BB86B732-D2AF-4BB0-B544-30DA61D0F76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AFC25F8F-9648-468E-B417-45EA6A28E0A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30848AC3-4E1F-4FB4-8674-1FCE88477A3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2EC8266E-FED4-4C1C-B04D-162A9D48C48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EB2DA11E-625C-416A-B872-6EB5D0AB848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75256B-08AD-41E0-959B-D803B3ADA5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24BED4-358D-4D5F-BE06-C4ADE15101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F83BBC-D8C8-478B-93EA-E8BB023808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1450E4-2AB9-41E3-A3F7-13C6C1D6DE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45D5F1-BEA4-4144-8676-9B6B878C38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EA959-3114-4A8E-9CBE-7F6D78760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E3D02A-430B-45D1-BA45-84B24838C2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D8A307-78EF-4BBC-BC00-0E69685514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C17061-6C3D-471C-A528-F33055DAA5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68177F-068B-48ED-AAA9-85A9804B3A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9C1070-CC3E-41C1-BD6F-E525BB74AC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463BA0-E8DD-459B-B5B3-AC568DE1A3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72C91A-5010-445F-A44A-EF857A316A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C74E4D-7424-49BD-9B51-D70DBD10F7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93ECA0-E9AD-4186-B07D-6B9E09B307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E1FF9C-B232-454F-A9EA-9A6149A74C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07E6-4151-4E8F-8D5D-E42146E37DF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4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43" name="PlaceHolder 3"/>
          <p:cNvSpPr>
            <a:spLocks noGrp="1"/>
          </p:cNvSpPr>
          <p:nvPr>
            <p:ph type="dt" idx="2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4" name="PlaceHolder 4"/>
          <p:cNvSpPr>
            <a:spLocks noGrp="1"/>
          </p:cNvSpPr>
          <p:nvPr>
            <p:ph type="ftr" idx="2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5"/>
          <p:cNvSpPr>
            <a:spLocks noGrp="1"/>
          </p:cNvSpPr>
          <p:nvPr>
            <p:ph type="sldNum" idx="30"/>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27F50-E602-4B78-8EFE-317C579F713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8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90"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1"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5"/>
          <p:cNvSpPr>
            <a:spLocks noGrp="1"/>
          </p:cNvSpPr>
          <p:nvPr>
            <p:ph type="sldNum" idx="33"/>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0656-0A3B-47C0-9FE8-B2AE3A263A38}"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Straight Connector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4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42" name="PlaceHolder 3"/>
          <p:cNvSpPr>
            <a:spLocks noGrp="1"/>
          </p:cNvSpPr>
          <p:nvPr>
            <p:ph type="sldNum" idx="3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E97A-9D84-4D57-8509-9C864F2CD6F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43"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4" name="PlaceHolder 5"/>
          <p:cNvSpPr>
            <a:spLocks noGrp="1"/>
          </p:cNvSpPr>
          <p:nvPr>
            <p:ph type="ftr" idx="36"/>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9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94" name="PlaceHolder 3"/>
          <p:cNvSpPr>
            <a:spLocks noGrp="1"/>
          </p:cNvSpPr>
          <p:nvPr>
            <p:ph type="sldNum" idx="37"/>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D9216-071E-44F0-999A-6D9C99771A7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95" name="PlaceHolder 4"/>
          <p:cNvSpPr>
            <a:spLocks noGrp="1"/>
          </p:cNvSpPr>
          <p:nvPr>
            <p:ph type="dt" idx="38"/>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6" name="PlaceHolder 5"/>
          <p:cNvSpPr>
            <a:spLocks noGrp="1"/>
          </p:cNvSpPr>
          <p:nvPr>
            <p:ph type="ftr" idx="39"/>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4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44"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45"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5"/>
          <p:cNvSpPr>
            <a:spLocks noGrp="1"/>
          </p:cNvSpPr>
          <p:nvPr>
            <p:ph type="sldNum" idx="42"/>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20F0-859B-41F1-B32A-7C955BCC9CC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83"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Straight Connector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Oval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9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94" name="PlaceHolder 3"/>
          <p:cNvSpPr>
            <a:spLocks noGrp="1"/>
          </p:cNvSpPr>
          <p:nvPr>
            <p:ph type="sldNum" idx="43"/>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D11C-F637-426E-ADF6-84B67C8D599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695" name="PlaceHolder 4"/>
          <p:cNvSpPr>
            <a:spLocks noGrp="1"/>
          </p:cNvSpPr>
          <p:nvPr>
            <p:ph type="dt" idx="4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96" name="PlaceHolder 5"/>
          <p:cNvSpPr>
            <a:spLocks noGrp="1"/>
          </p:cNvSpPr>
          <p:nvPr>
            <p:ph type="ftr" idx="4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73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740" name="PlaceHolder 3"/>
          <p:cNvSpPr>
            <a:spLocks noGrp="1"/>
          </p:cNvSpPr>
          <p:nvPr>
            <p:ph type="dt" idx="4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741" name="PlaceHolder 4"/>
          <p:cNvSpPr>
            <a:spLocks noGrp="1"/>
          </p:cNvSpPr>
          <p:nvPr>
            <p:ph type="ftr" idx="47"/>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4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8635-604E-4E0C-BF23-F79A4EDBDBF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0" name="Rounded Rectangle 10"/>
          <p:cNvGrpSpPr/>
          <p:nvPr/>
        </p:nvGrpSpPr>
        <p:grpSpPr>
          <a:xfrm>
            <a:off x="60480" y="60480"/>
            <a:ext cx="9028080" cy="6711840"/>
            <a:chOff x="60480" y="60480"/>
            <a:chExt cx="9028080" cy="6711840"/>
          </a:xfrm>
        </p:grpSpPr>
        <p:pic>
          <p:nvPicPr>
            <p:cNvPr id="781" name="Rounded Rectangle 10" descr=""/>
            <p:cNvPicPr/>
            <p:nvPr/>
          </p:nvPicPr>
          <p:blipFill>
            <a:blip r:embed="rId3"/>
            <a:stretch/>
          </p:blipFill>
          <p:spPr>
            <a:xfrm>
              <a:off x="60480" y="60480"/>
              <a:ext cx="9028080" cy="6711840"/>
            </a:xfrm>
            <a:prstGeom prst="rect">
              <a:avLst/>
            </a:prstGeom>
            <a:ln w="0">
              <a:noFill/>
            </a:ln>
          </p:spPr>
        </p:pic>
        <p:sp>
          <p:nvSpPr>
            <p:cNvPr id="78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78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788" name="PlaceHolder 3"/>
          <p:cNvSpPr>
            <a:spLocks noGrp="1"/>
          </p:cNvSpPr>
          <p:nvPr>
            <p:ph type="dt" idx="49"/>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789" name="PlaceHolder 4"/>
          <p:cNvSpPr>
            <a:spLocks noGrp="1"/>
          </p:cNvSpPr>
          <p:nvPr>
            <p:ph type="ftr" idx="50"/>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5"/>
          <p:cNvSpPr>
            <a:spLocks noGrp="1"/>
          </p:cNvSpPr>
          <p:nvPr>
            <p:ph type="sldNum" idx="51"/>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8C64-F255-4D3A-8728-2195091F4AA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83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833" name="PlaceHolder 3"/>
          <p:cNvSpPr>
            <a:spLocks noGrp="1"/>
          </p:cNvSpPr>
          <p:nvPr>
            <p:ph type="dt" idx="52"/>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834" name="PlaceHolder 4"/>
          <p:cNvSpPr>
            <a:spLocks noGrp="1"/>
          </p:cNvSpPr>
          <p:nvPr>
            <p:ph type="ftr" idx="53"/>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PlaceHolder 5"/>
          <p:cNvSpPr>
            <a:spLocks noGrp="1"/>
          </p:cNvSpPr>
          <p:nvPr>
            <p:ph type="sldNum" idx="5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C69B-DAD6-4A98-B57F-72F8C2FA6A5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87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879" name="PlaceHolder 3"/>
          <p:cNvSpPr>
            <a:spLocks noGrp="1"/>
          </p:cNvSpPr>
          <p:nvPr>
            <p:ph type="dt" idx="55"/>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880" name="PlaceHolder 4"/>
          <p:cNvSpPr>
            <a:spLocks noGrp="1"/>
          </p:cNvSpPr>
          <p:nvPr>
            <p:ph type="ftr" idx="56"/>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PlaceHolder 5"/>
          <p:cNvSpPr>
            <a:spLocks noGrp="1"/>
          </p:cNvSpPr>
          <p:nvPr>
            <p:ph type="sldNum" idx="57"/>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06F0-458C-440D-B8BB-1AC5DFE6990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4"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5"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B865F-8C75-4B0D-AFEA-509F6094BF6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8"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2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25" name="PlaceHolder 3"/>
          <p:cNvSpPr>
            <a:spLocks noGrp="1"/>
          </p:cNvSpPr>
          <p:nvPr>
            <p:ph type="dt" idx="58"/>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26" name="PlaceHolder 4"/>
          <p:cNvSpPr>
            <a:spLocks noGrp="1"/>
          </p:cNvSpPr>
          <p:nvPr>
            <p:ph type="ftr" idx="59"/>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0"/>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EE7E-FDB1-490F-AFC5-18A49250609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5" name="Rounded Rectangle 10"/>
          <p:cNvGrpSpPr/>
          <p:nvPr/>
        </p:nvGrpSpPr>
        <p:grpSpPr>
          <a:xfrm>
            <a:off x="60480" y="60480"/>
            <a:ext cx="9028080" cy="6711840"/>
            <a:chOff x="60480" y="60480"/>
            <a:chExt cx="9028080" cy="6711840"/>
          </a:xfrm>
        </p:grpSpPr>
        <p:pic>
          <p:nvPicPr>
            <p:cNvPr id="966" name="Rounded Rectangle 10" descr=""/>
            <p:cNvPicPr/>
            <p:nvPr/>
          </p:nvPicPr>
          <p:blipFill>
            <a:blip r:embed="rId3"/>
            <a:stretch/>
          </p:blipFill>
          <p:spPr>
            <a:xfrm>
              <a:off x="60480" y="60480"/>
              <a:ext cx="9028080" cy="6711840"/>
            </a:xfrm>
            <a:prstGeom prst="rect">
              <a:avLst/>
            </a:prstGeom>
            <a:ln w="0">
              <a:noFill/>
            </a:ln>
          </p:spPr>
        </p:pic>
        <p:sp>
          <p:nvSpPr>
            <p:cNvPr id="967"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8"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73" name="PlaceHolder 3"/>
          <p:cNvSpPr>
            <a:spLocks noGrp="1"/>
          </p:cNvSpPr>
          <p:nvPr>
            <p:ph type="dt" idx="6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74" name="PlaceHolder 4"/>
          <p:cNvSpPr>
            <a:spLocks noGrp="1"/>
          </p:cNvSpPr>
          <p:nvPr>
            <p:ph type="ftr" idx="62"/>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PlaceHolder 5"/>
          <p:cNvSpPr>
            <a:spLocks noGrp="1"/>
          </p:cNvSpPr>
          <p:nvPr>
            <p:ph type="sldNum" idx="63"/>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FC10-27AD-4A5C-9083-D00630F4471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1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8" name="PlaceHolder 3"/>
          <p:cNvSpPr>
            <a:spLocks noGrp="1"/>
          </p:cNvSpPr>
          <p:nvPr>
            <p:ph type="dt" idx="6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019" name="PlaceHolder 4"/>
          <p:cNvSpPr>
            <a:spLocks noGrp="1"/>
          </p:cNvSpPr>
          <p:nvPr>
            <p:ph type="ftr" idx="6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5"/>
          <p:cNvSpPr>
            <a:spLocks noGrp="1"/>
          </p:cNvSpPr>
          <p:nvPr>
            <p:ph type="sldNum" idx="6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E5499-4DA9-4ACE-A9F7-E451ADE2441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6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64" name="PlaceHolder 3"/>
          <p:cNvSpPr>
            <a:spLocks noGrp="1"/>
          </p:cNvSpPr>
          <p:nvPr>
            <p:ph type="dt" idx="6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065" name="PlaceHolder 4"/>
          <p:cNvSpPr>
            <a:spLocks noGrp="1"/>
          </p:cNvSpPr>
          <p:nvPr>
            <p:ph type="ftr" idx="68"/>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PlaceHolder 5"/>
          <p:cNvSpPr>
            <a:spLocks noGrp="1"/>
          </p:cNvSpPr>
          <p:nvPr>
            <p:ph type="sldNum" idx="6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0C09-9E73-441C-B6A6-1B22089485D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7"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F21E-6BA8-469B-B3E5-17BC56C2764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20A8-DE35-4305-A2D7-997961E38F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7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8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88" name="PlaceHolder 3"/>
          <p:cNvSpPr>
            <a:spLocks noGrp="1"/>
          </p:cNvSpPr>
          <p:nvPr>
            <p:ph type="dt" idx="1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9"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8A145-9445-428D-B115-C8603AD13DC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2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3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38"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9" name="PlaceHolder 4"/>
          <p:cNvSpPr>
            <a:spLocks noGrp="1"/>
          </p:cNvSpPr>
          <p:nvPr>
            <p:ph type="ftr" idx="17"/>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5"/>
          <p:cNvSpPr>
            <a:spLocks noGrp="1"/>
          </p:cNvSpPr>
          <p:nvPr>
            <p:ph type="sldNum" idx="18"/>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A46C-F626-486D-85B5-9629E3B71D5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Straight Connector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Oval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8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90" name="PlaceHolder 3"/>
          <p:cNvSpPr>
            <a:spLocks noGrp="1"/>
          </p:cNvSpPr>
          <p:nvPr>
            <p:ph type="ftr" idx="1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dt" idx="2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2" name="PlaceHolder 5"/>
          <p:cNvSpPr>
            <a:spLocks noGrp="1"/>
          </p:cNvSpPr>
          <p:nvPr>
            <p:ph type="sldNum" idx="21"/>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FD8F-152B-4B6C-8188-B8F1507F34B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29"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4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41" name="PlaceHolder 3"/>
          <p:cNvSpPr>
            <a:spLocks noGrp="1"/>
          </p:cNvSpPr>
          <p:nvPr>
            <p:ph type="dt" idx="22"/>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2"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24"/>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DFD9-4FF6-45DE-8FD5-C5A509B7193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80"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Straight Connector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9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93" name="PlaceHolder 3"/>
          <p:cNvSpPr>
            <a:spLocks noGrp="1"/>
          </p:cNvSpPr>
          <p:nvPr>
            <p:ph type="dt" idx="2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94" name="PlaceHolder 4"/>
          <p:cNvSpPr>
            <a:spLocks noGrp="1"/>
          </p:cNvSpPr>
          <p:nvPr>
            <p:ph type="ftr" idx="26"/>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5"/>
          <p:cNvSpPr>
            <a:spLocks noGrp="1"/>
          </p:cNvSpPr>
          <p:nvPr>
            <p:ph type="sldNum" idx="27"/>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4AC6-C371-413E-BD7C-E3A6FF7A749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6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6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6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hyperlink" Target="http://www.google.ca/imgres?imgurl=http://0.tqn.com/d/atheism/1/0/D/U/TroyMap-s.jpg&amp;imgrefurl=http://atheism.about.com/library/FAQs/religion/blgrk_troy.htm&amp;usg=__nXRcNN4qpWxuifhlGugqDtNeMLU=&amp;h=200&amp;w=150&amp;sz=9&amp;hl=en&amp;start=2&amp;zoom=1&amp;um=1&amp;itbs=1&amp;tbnid=4JeQEsPQa-fZsM:&amp;tbnh=104&amp;tbnw=78&amp;prev=/images%3Fq%3Dtroy%2Bmap%2Baegean%26um%3D1%26hl%3Den%26safe%3Dactive%26rls%3Dcom.microsoft:en-US%26tbs%3Disch:1"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6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sp>
        <p:nvSpPr>
          <p:cNvPr id="1111"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roy</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eography</a:t>
            </a:r>
            <a:endParaRPr b="0" lang="en-US" sz="3300" spc="-1" strike="noStrike">
              <a:solidFill>
                <a:srgbClr val="7b9899"/>
              </a:solidFill>
              <a:latin typeface="Georgia"/>
            </a:endParaRPr>
          </a:p>
        </p:txBody>
      </p:sp>
      <p:sp>
        <p:nvSpPr>
          <p:cNvPr id="1137"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rrounded by mountai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tuated on riv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cal point for many trade rout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138" name="Picture 5" descr="http://student.ccbcmd.edu/~bprotopa/acropolis_athens_greece_ert.jpg"/>
          <p:cNvPicPr/>
          <p:nvPr/>
        </p:nvPicPr>
        <p:blipFill>
          <a:blip r:embed="rId1"/>
          <a:stretch/>
        </p:blipFill>
        <p:spPr>
          <a:xfrm>
            <a:off x="395280" y="3429000"/>
            <a:ext cx="4724280" cy="314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olitical Structure</a:t>
            </a:r>
            <a:endParaRPr b="0" lang="en-US" sz="3300" spc="-1" strike="noStrike">
              <a:solidFill>
                <a:srgbClr val="7b9899"/>
              </a:solidFill>
              <a:latin typeface="Georgia"/>
            </a:endParaRPr>
          </a:p>
        </p:txBody>
      </p:sp>
      <p:sp>
        <p:nvSpPr>
          <p:cNvPr id="114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Democratic</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parated into three part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Assembly</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Council</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Cour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conomic and Social Systems</a:t>
            </a:r>
            <a:endParaRPr b="0" lang="en-US" sz="3300" spc="-1" strike="noStrike">
              <a:solidFill>
                <a:srgbClr val="7b9899"/>
              </a:solidFill>
              <a:latin typeface="Georgia"/>
            </a:endParaRPr>
          </a:p>
        </p:txBody>
      </p:sp>
      <p:sp>
        <p:nvSpPr>
          <p:cNvPr id="114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80000"/>
              </a:lnSpc>
              <a:spcBef>
                <a:spcPts val="8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eorgia"/>
              </a:rPr>
              <a:t>Slaves consisted of approx. 40%-80% of classical Athens’ population</a:t>
            </a:r>
            <a:endParaRPr b="0" lang="en-US" sz="3400" spc="-1" strike="noStrike">
              <a:solidFill>
                <a:srgbClr val="000000"/>
              </a:solidFill>
              <a:latin typeface="Georgia"/>
            </a:endParaRPr>
          </a:p>
          <a:p>
            <a:pPr marL="272880" indent="-272880">
              <a:lnSpc>
                <a:spcPct val="80000"/>
              </a:lnSpc>
              <a:spcBef>
                <a:spcPts val="8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eorgia"/>
              </a:rPr>
              <a:t>Population divided into four separate social classes based on wealth</a:t>
            </a:r>
            <a:endParaRPr b="0" lang="en-US" sz="3400" spc="-1" strike="noStrike">
              <a:solidFill>
                <a:srgbClr val="000000"/>
              </a:solidFill>
              <a:latin typeface="Georgia"/>
            </a:endParaRPr>
          </a:p>
          <a:p>
            <a:pPr marL="272880" indent="-272880">
              <a:lnSpc>
                <a:spcPct val="80000"/>
              </a:lnSpc>
              <a:spcBef>
                <a:spcPts val="8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eorgia"/>
              </a:rPr>
              <a:t>Trade and agriculture are main economic contributors</a:t>
            </a:r>
            <a:endParaRPr b="0" lang="en-US" sz="3400" spc="-1" strike="noStrike">
              <a:solidFill>
                <a:srgbClr val="000000"/>
              </a:solidFill>
              <a:latin typeface="Georgia"/>
            </a:endParaRPr>
          </a:p>
          <a:p>
            <a:pPr marL="272880" indent="-27288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br>
              <a:rPr sz="3700"/>
            </a:br>
            <a:endParaRPr b="0" lang="en-US" sz="37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rt and Architecture</a:t>
            </a:r>
            <a:endParaRPr b="0" lang="en-US" sz="3300" spc="-1" strike="noStrike">
              <a:solidFill>
                <a:srgbClr val="7b9899"/>
              </a:solidFill>
              <a:latin typeface="Georgia"/>
            </a:endParaRPr>
          </a:p>
        </p:txBody>
      </p:sp>
      <p:sp>
        <p:nvSpPr>
          <p:cNvPr id="114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ull size sculptures, Jewelry and Pottery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rama produc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e Doric style is rather sturdy and its top (the capital), is plain. This style was used in mainland Greece and the colonies in southern Italy and Sicily.</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e Ionic style is thinner and more elegant. Its capital is decorated with a scroll-like design (a volute). This style was found in eastern Greece and the island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145" name="Picture 3" descr="doric.gif"/>
          <p:cNvPicPr/>
          <p:nvPr/>
        </p:nvPicPr>
        <p:blipFill>
          <a:blip r:embed="rId1"/>
          <a:stretch/>
        </p:blipFill>
        <p:spPr>
          <a:xfrm>
            <a:off x="3132000" y="5084640"/>
            <a:ext cx="908280" cy="1451160"/>
          </a:xfrm>
          <a:prstGeom prst="rect">
            <a:avLst/>
          </a:prstGeom>
          <a:ln w="0">
            <a:noFill/>
          </a:ln>
        </p:spPr>
      </p:pic>
      <p:pic>
        <p:nvPicPr>
          <p:cNvPr id="1146" name="Picture 4" descr="ionic.gif"/>
          <p:cNvPicPr/>
          <p:nvPr/>
        </p:nvPicPr>
        <p:blipFill>
          <a:blip r:embed="rId2"/>
          <a:stretch/>
        </p:blipFill>
        <p:spPr>
          <a:xfrm>
            <a:off x="4284720" y="5084640"/>
            <a:ext cx="1081080" cy="148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cience and Technology</a:t>
            </a:r>
            <a:endParaRPr b="0" lang="en-US" sz="3300" spc="-1" strike="noStrike">
              <a:solidFill>
                <a:srgbClr val="7b9899"/>
              </a:solidFill>
              <a:latin typeface="Georgia"/>
            </a:endParaRPr>
          </a:p>
        </p:txBody>
      </p:sp>
      <p:sp>
        <p:nvSpPr>
          <p:cNvPr id="1148" name=""/>
          <p:cNvSpPr txBox="1"/>
          <p:nvPr/>
        </p:nvSpPr>
        <p:spPr>
          <a:xfrm>
            <a:off x="395280" y="1557360"/>
            <a:ext cx="8229600" cy="452592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thematic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atapul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hower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ulley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ining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ligion</a:t>
            </a:r>
            <a:endParaRPr b="0" lang="en-US" sz="3300" spc="-1" strike="noStrike">
              <a:solidFill>
                <a:srgbClr val="7b9899"/>
              </a:solidFill>
              <a:latin typeface="Georgia"/>
            </a:endParaRPr>
          </a:p>
        </p:txBody>
      </p:sp>
      <p:sp>
        <p:nvSpPr>
          <p:cNvPr id="115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hena was deemed the patron deity of Athen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elieved in afterlif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ntheon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estival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tellectuals</a:t>
            </a:r>
            <a:endParaRPr b="0" lang="en-US" sz="3300" spc="-1" strike="noStrike">
              <a:solidFill>
                <a:srgbClr val="7b9899"/>
              </a:solidFill>
              <a:latin typeface="Georgia"/>
            </a:endParaRPr>
          </a:p>
        </p:txBody>
      </p:sp>
      <p:sp>
        <p:nvSpPr>
          <p:cNvPr id="115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seu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chimed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ythagora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istot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crate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lato</a:t>
            </a:r>
            <a:endParaRPr b="0" lang="en-US" sz="2700" spc="-1" strike="noStrike">
              <a:solidFill>
                <a:srgbClr val="000000"/>
              </a:solidFill>
              <a:latin typeface="Georgia"/>
            </a:endParaRPr>
          </a:p>
        </p:txBody>
      </p:sp>
      <p:pic>
        <p:nvPicPr>
          <p:cNvPr id="1153" name="Picture 5" descr="http://www.historyforkids.org/learn/greeks/philosophy/pictures/socrates.gif"/>
          <p:cNvPicPr/>
          <p:nvPr/>
        </p:nvPicPr>
        <p:blipFill>
          <a:blip r:embed="rId1"/>
          <a:stretch/>
        </p:blipFill>
        <p:spPr>
          <a:xfrm>
            <a:off x="3203640" y="1197000"/>
            <a:ext cx="2057400" cy="2733480"/>
          </a:xfrm>
          <a:prstGeom prst="rect">
            <a:avLst/>
          </a:prstGeom>
          <a:ln w="0">
            <a:noFill/>
          </a:ln>
        </p:spPr>
      </p:pic>
      <p:pic>
        <p:nvPicPr>
          <p:cNvPr id="1154" name="Picture 7" descr="http://thedailymind.com/wp-content/uploads/2008/05/archimedes.jpg"/>
          <p:cNvPicPr/>
          <p:nvPr/>
        </p:nvPicPr>
        <p:blipFill>
          <a:blip r:embed="rId2"/>
          <a:stretch/>
        </p:blipFill>
        <p:spPr>
          <a:xfrm>
            <a:off x="5580000" y="1989000"/>
            <a:ext cx="2857680" cy="3848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1156" name="PlaceHolder 2"/>
          <p:cNvSpPr>
            <a:spLocks noGrp="1"/>
          </p:cNvSpPr>
          <p:nvPr>
            <p:ph type="title"/>
          </p:nvPr>
        </p:nvSpPr>
        <p:spPr>
          <a:xfrm>
            <a:off x="684360" y="1341360"/>
            <a:ext cx="7772400" cy="147024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Sparta</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ime Periods</a:t>
            </a:r>
            <a:endParaRPr b="0" lang="en-US" sz="3300" spc="-1" strike="noStrike">
              <a:solidFill>
                <a:srgbClr val="7b9899"/>
              </a:solidFill>
              <a:latin typeface="Georgia"/>
            </a:endParaRPr>
          </a:p>
        </p:txBody>
      </p:sp>
      <p:sp>
        <p:nvSpPr>
          <p:cNvPr id="115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1194 – 1184 BCE: Trojan Wa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500 – 449 BCE: Greco-Persian Wa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431 – 404 BCE: Peloponnesian Wa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eography</a:t>
            </a:r>
            <a:endParaRPr b="0" lang="en-US" sz="3300" spc="-1" strike="noStrike">
              <a:solidFill>
                <a:srgbClr val="7b9899"/>
              </a:solidFill>
              <a:latin typeface="Georgia"/>
            </a:endParaRPr>
          </a:p>
        </p:txBody>
      </p:sp>
      <p:sp>
        <p:nvSpPr>
          <p:cNvPr id="116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parta is set into the coastal mountains of southern Gree</a:t>
            </a:r>
            <a:r>
              <a:rPr b="0" lang="en-CA" sz="2700" spc="-1" strike="noStrike">
                <a:solidFill>
                  <a:srgbClr val="000000"/>
                </a:solidFill>
                <a:latin typeface="Georgia"/>
              </a:rPr>
              <a:t>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t located on the banks of the Evrotas River, which provides rich soil for farmin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161" name="Picture 5" descr="Ancient Sparta Theatre - Sparta, Lakonia"/>
          <p:cNvPicPr/>
          <p:nvPr/>
        </p:nvPicPr>
        <p:blipFill>
          <a:blip r:embed="rId1"/>
          <a:stretch/>
        </p:blipFill>
        <p:spPr>
          <a:xfrm>
            <a:off x="684360" y="3933720"/>
            <a:ext cx="3558960" cy="2374920"/>
          </a:xfrm>
          <a:prstGeom prst="rect">
            <a:avLst/>
          </a:prstGeom>
          <a:ln w="0">
            <a:noFill/>
          </a:ln>
        </p:spPr>
      </p:pic>
      <p:pic>
        <p:nvPicPr>
          <p:cNvPr id="1162" name="Picture 7" descr="http://www.greece-map.net/maps/peloponnese-map.gif"/>
          <p:cNvPicPr/>
          <p:nvPr/>
        </p:nvPicPr>
        <p:blipFill>
          <a:blip r:embed="rId2"/>
          <a:stretch/>
        </p:blipFill>
        <p:spPr>
          <a:xfrm>
            <a:off x="5003640" y="3573360"/>
            <a:ext cx="2665440" cy="266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ime Period</a:t>
            </a:r>
            <a:endParaRPr b="0" lang="en-US" sz="3300" spc="-1" strike="noStrike">
              <a:solidFill>
                <a:srgbClr val="7b9899"/>
              </a:solidFill>
              <a:latin typeface="Georgia"/>
            </a:endParaRPr>
          </a:p>
        </p:txBody>
      </p:sp>
      <p:sp>
        <p:nvSpPr>
          <p:cNvPr id="111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nded around 3000 B.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etween 1210-1180 B.C.E Troy burnt down entirel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oy rebuilt again, but never regained its powe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olitical Structure</a:t>
            </a:r>
            <a:endParaRPr b="0" lang="en-US" sz="3300" spc="-1" strike="noStrike">
              <a:solidFill>
                <a:srgbClr val="7b9899"/>
              </a:solidFill>
              <a:latin typeface="Georgia"/>
            </a:endParaRPr>
          </a:p>
        </p:txBody>
      </p:sp>
      <p:sp>
        <p:nvSpPr>
          <p:cNvPr id="116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Rule is shared by two king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Kings were not absolute, there were also five elected officials who presided over a council of elders. They were often in charge while the kings were away.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Social Systems</a:t>
            </a:r>
            <a:endParaRPr b="0" lang="en-US" sz="3300" spc="-1" strike="noStrike">
              <a:solidFill>
                <a:srgbClr val="7b9899"/>
              </a:solidFill>
              <a:latin typeface="Georgia"/>
            </a:endParaRPr>
          </a:p>
        </p:txBody>
      </p:sp>
      <p:sp>
        <p:nvSpPr>
          <p:cNvPr id="116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Hierarchy is based on military proficiency, at the top were Spartiates, followed by Mothakes, Perioikoi, and Helo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Women were very much respected for that time period. They enjoyed many of the same rights that men did, including education and land ownership.</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Economic Systems</a:t>
            </a:r>
            <a:endParaRPr b="0" lang="en-US" sz="3300" spc="-1" strike="noStrike">
              <a:solidFill>
                <a:srgbClr val="7b9899"/>
              </a:solidFill>
              <a:latin typeface="Georgia"/>
            </a:endParaRPr>
          </a:p>
        </p:txBody>
      </p:sp>
      <p:sp>
        <p:nvSpPr>
          <p:cNvPr id="116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Spartiates were banned by law from engaging in trade. Even coins were banned, the currency was iron bar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 allowed the Perioikoi class to engage in trade, they were the craftsmen, the weapon smiths, and the merchant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Art and Science</a:t>
            </a:r>
            <a:endParaRPr b="0" lang="en-US" sz="3300" spc="-1" strike="noStrike">
              <a:solidFill>
                <a:srgbClr val="7b9899"/>
              </a:solidFill>
              <a:latin typeface="Georgia"/>
            </a:endParaRPr>
          </a:p>
        </p:txBody>
      </p:sp>
      <p:sp>
        <p:nvSpPr>
          <p:cNvPr id="117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Art was commonplace in Spartan life, they were renown for their sculpture, music and dan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Spartan metalwork was second to none</a:t>
            </a:r>
            <a:endParaRPr b="0" lang="en-US" sz="2700" spc="-1" strike="noStrike">
              <a:solidFill>
                <a:srgbClr val="000000"/>
              </a:solidFill>
              <a:latin typeface="Georgia"/>
            </a:endParaRPr>
          </a:p>
        </p:txBody>
      </p:sp>
      <p:pic>
        <p:nvPicPr>
          <p:cNvPr id="1171" name="Picture 7" descr="http://elysiumgates.com/~helena/images/spartan-marketplace.jpg"/>
          <p:cNvPicPr/>
          <p:nvPr/>
        </p:nvPicPr>
        <p:blipFill>
          <a:blip r:embed="rId1"/>
          <a:stretch/>
        </p:blipFill>
        <p:spPr>
          <a:xfrm>
            <a:off x="4067280" y="3429000"/>
            <a:ext cx="3143160" cy="2790720"/>
          </a:xfrm>
          <a:prstGeom prst="rect">
            <a:avLst/>
          </a:prstGeom>
          <a:ln w="0">
            <a:noFill/>
          </a:ln>
        </p:spPr>
      </p:pic>
      <p:pic>
        <p:nvPicPr>
          <p:cNvPr id="1172" name="Picture 9" descr="dancing"/>
          <p:cNvPicPr/>
          <p:nvPr/>
        </p:nvPicPr>
        <p:blipFill>
          <a:blip r:embed="rId2"/>
          <a:stretch/>
        </p:blipFill>
        <p:spPr>
          <a:xfrm>
            <a:off x="971640" y="3141720"/>
            <a:ext cx="2439720" cy="2374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Religion</a:t>
            </a:r>
            <a:endParaRPr b="0" lang="en-US" sz="3300" spc="-1" strike="noStrike">
              <a:solidFill>
                <a:srgbClr val="7b9899"/>
              </a:solidFill>
              <a:latin typeface="Georgia"/>
            </a:endParaRPr>
          </a:p>
        </p:txBody>
      </p:sp>
      <p:sp>
        <p:nvSpPr>
          <p:cNvPr id="117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 Spartans worshipped the usual pantheon of Greek gods. Sparta wasn’t associated with any particular deit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Greek religion put a heavy emphasis on sacrifice. Only by appeasing the gods could you gain intercession. Also, the Greeks believed fate overrode everything, and no god could change th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Intellectuals</a:t>
            </a:r>
            <a:endParaRPr b="0" lang="en-US" sz="3300" spc="-1" strike="noStrike">
              <a:solidFill>
                <a:srgbClr val="7b9899"/>
              </a:solidFill>
              <a:latin typeface="Georgia"/>
            </a:endParaRPr>
          </a:p>
        </p:txBody>
      </p:sp>
      <p:sp>
        <p:nvSpPr>
          <p:cNvPr id="117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Spartan literature is notoriously sparse. Much of what we know is discerned from other city-states writing about the Spartan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1178"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Thebe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Time Periods</a:t>
            </a:r>
            <a:endParaRPr b="0" lang="en-US" sz="3300" spc="-1" strike="noStrike">
              <a:solidFill>
                <a:srgbClr val="7b9899"/>
              </a:solidFill>
              <a:latin typeface="Georgia"/>
            </a:endParaRPr>
          </a:p>
        </p:txBody>
      </p:sp>
      <p:sp>
        <p:nvSpPr>
          <p:cNvPr id="118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One of the oldest Greek citi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Fought against Greece in the Persian War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Burnt to the ground by Alexander the Grea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Geography</a:t>
            </a:r>
            <a:endParaRPr b="0" lang="en-US" sz="3300" spc="-1" strike="noStrike">
              <a:solidFill>
                <a:srgbClr val="7b9899"/>
              </a:solidFill>
              <a:latin typeface="Georgia"/>
            </a:endParaRPr>
          </a:p>
        </p:txBody>
      </p:sp>
      <p:sp>
        <p:nvSpPr>
          <p:cNvPr id="1182"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bes is set in the coastal valleys of central Gree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West of Athens, between the Aegean and Ionian Sea</a:t>
            </a:r>
            <a:endParaRPr b="0" lang="en-US" sz="2700" spc="-1" strike="noStrike">
              <a:solidFill>
                <a:srgbClr val="000000"/>
              </a:solidFill>
              <a:latin typeface="Georgia"/>
            </a:endParaRPr>
          </a:p>
        </p:txBody>
      </p:sp>
      <p:pic>
        <p:nvPicPr>
          <p:cNvPr id="1183" name="Picture 7" descr="http://upload.wikimedia.org/wikipedia/commons/e/e5/Thebes-1.jpg"/>
          <p:cNvPicPr/>
          <p:nvPr/>
        </p:nvPicPr>
        <p:blipFill>
          <a:blip r:embed="rId1"/>
          <a:stretch/>
        </p:blipFill>
        <p:spPr>
          <a:xfrm>
            <a:off x="755640" y="3789360"/>
            <a:ext cx="3139920" cy="2087640"/>
          </a:xfrm>
          <a:prstGeom prst="rect">
            <a:avLst/>
          </a:prstGeom>
          <a:ln w="0">
            <a:noFill/>
          </a:ln>
        </p:spPr>
      </p:pic>
      <p:pic>
        <p:nvPicPr>
          <p:cNvPr id="1184" name="Picture 11" descr="http://image.absoluteastronomy.com/images/encyclopediaimages/g/gr/greece,ancient.gif"/>
          <p:cNvPicPr/>
          <p:nvPr/>
        </p:nvPicPr>
        <p:blipFill>
          <a:blip r:embed="rId2"/>
          <a:stretch/>
        </p:blipFill>
        <p:spPr>
          <a:xfrm>
            <a:off x="4859280" y="3645000"/>
            <a:ext cx="3305160" cy="2914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Political Structure</a:t>
            </a:r>
            <a:endParaRPr b="0" lang="en-US" sz="3300" spc="-1" strike="noStrike">
              <a:solidFill>
                <a:srgbClr val="7b9899"/>
              </a:solidFill>
              <a:latin typeface="Georgia"/>
            </a:endParaRPr>
          </a:p>
        </p:txBody>
      </p:sp>
      <p:sp>
        <p:nvSpPr>
          <p:cNvPr id="118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Because of Thebes proximity to Athens, Theban politics were greatly influenced by the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Not only was Thebes democratic, but they had a distinct party system much like our governmen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eography</a:t>
            </a:r>
            <a:endParaRPr b="0" lang="en-US" sz="3300" spc="-1" strike="noStrike">
              <a:solidFill>
                <a:srgbClr val="7b9899"/>
              </a:solidFill>
              <a:latin typeface="Georgia"/>
            </a:endParaRPr>
          </a:p>
        </p:txBody>
      </p:sp>
      <p:sp>
        <p:nvSpPr>
          <p:cNvPr id="111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sia mino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ardanell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trolled trade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6" name="AutoShape 5">
            <a:hlinkClick r:id="rId1"/>
          </p:cNvPr>
          <p:cNvSpPr/>
          <p:nvPr/>
        </p:nvSpPr>
        <p:spPr>
          <a:xfrm>
            <a:off x="155520" y="-471600"/>
            <a:ext cx="74304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7" name="Picture 7" descr="http://www.hector.com/images/map-troy.jpg"/>
          <p:cNvPicPr/>
          <p:nvPr/>
        </p:nvPicPr>
        <p:blipFill>
          <a:blip r:embed="rId2"/>
          <a:stretch/>
        </p:blipFill>
        <p:spPr>
          <a:xfrm>
            <a:off x="539640" y="3933720"/>
            <a:ext cx="3002040" cy="2374920"/>
          </a:xfrm>
          <a:prstGeom prst="rect">
            <a:avLst/>
          </a:prstGeom>
          <a:ln w="0">
            <a:noFill/>
          </a:ln>
        </p:spPr>
      </p:pic>
      <p:pic>
        <p:nvPicPr>
          <p:cNvPr id="1118" name="Picture 9" descr="http://0.tqn.com/d/atheism/1/0/D/U/TroyMap-s.jpg"/>
          <p:cNvPicPr/>
          <p:nvPr/>
        </p:nvPicPr>
        <p:blipFill>
          <a:blip r:embed="rId3"/>
          <a:stretch/>
        </p:blipFill>
        <p:spPr>
          <a:xfrm>
            <a:off x="3780000" y="3213000"/>
            <a:ext cx="1944360" cy="2592360"/>
          </a:xfrm>
          <a:prstGeom prst="rect">
            <a:avLst/>
          </a:prstGeom>
          <a:ln w="0">
            <a:noFill/>
          </a:ln>
        </p:spPr>
      </p:pic>
      <p:pic>
        <p:nvPicPr>
          <p:cNvPr id="1119" name="Picture 11" descr="Reconstruction of Troy VI"/>
          <p:cNvPicPr/>
          <p:nvPr/>
        </p:nvPicPr>
        <p:blipFill>
          <a:blip r:embed="rId4"/>
          <a:stretch/>
        </p:blipFill>
        <p:spPr>
          <a:xfrm>
            <a:off x="3627360" y="1484280"/>
            <a:ext cx="4770360" cy="1584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Economic and Social Structures</a:t>
            </a:r>
            <a:endParaRPr b="0" lang="en-US" sz="3300" spc="-1" strike="noStrike">
              <a:solidFill>
                <a:srgbClr val="7b9899"/>
              </a:solidFill>
              <a:latin typeface="Georgia"/>
            </a:endParaRPr>
          </a:p>
        </p:txBody>
      </p:sp>
      <p:sp>
        <p:nvSpPr>
          <p:cNvPr id="118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Like politics, the Theban economy is similar to that of Athe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As in other city-states, only Males born to Theban parents were considered citizen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Art, Science, Technology</a:t>
            </a:r>
            <a:endParaRPr b="0" lang="en-US" sz="3300" spc="-1" strike="noStrike">
              <a:solidFill>
                <a:srgbClr val="7b9899"/>
              </a:solidFill>
              <a:latin typeface="Georgia"/>
            </a:endParaRPr>
          </a:p>
        </p:txBody>
      </p:sp>
      <p:sp>
        <p:nvSpPr>
          <p:cNvPr id="119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bes was the first Greek city to issue coi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bes is richly connected to Greek legend and writing</a:t>
            </a:r>
            <a:endParaRPr b="0" lang="en-US" sz="2700" spc="-1" strike="noStrike">
              <a:solidFill>
                <a:srgbClr val="000000"/>
              </a:solidFill>
              <a:latin typeface="Georgia"/>
            </a:endParaRPr>
          </a:p>
        </p:txBody>
      </p:sp>
      <p:pic>
        <p:nvPicPr>
          <p:cNvPr id="1191" name="Picture 5" descr="Boeotian shield"/>
          <p:cNvPicPr/>
          <p:nvPr/>
        </p:nvPicPr>
        <p:blipFill>
          <a:blip r:embed="rId1"/>
          <a:stretch/>
        </p:blipFill>
        <p:spPr>
          <a:xfrm>
            <a:off x="3203640" y="3068640"/>
            <a:ext cx="1047600" cy="1047600"/>
          </a:xfrm>
          <a:prstGeom prst="rect">
            <a:avLst/>
          </a:prstGeom>
          <a:ln w="0">
            <a:noFill/>
          </a:ln>
        </p:spPr>
      </p:pic>
      <p:pic>
        <p:nvPicPr>
          <p:cNvPr id="1192" name="Picture 7" descr="Amphora"/>
          <p:cNvPicPr/>
          <p:nvPr/>
        </p:nvPicPr>
        <p:blipFill>
          <a:blip r:embed="rId2"/>
          <a:stretch/>
        </p:blipFill>
        <p:spPr>
          <a:xfrm>
            <a:off x="4572000" y="3068640"/>
            <a:ext cx="1047600" cy="1047600"/>
          </a:xfrm>
          <a:prstGeom prst="rect">
            <a:avLst/>
          </a:prstGeom>
          <a:ln w="0">
            <a:noFill/>
          </a:ln>
        </p:spPr>
      </p:pic>
      <p:pic>
        <p:nvPicPr>
          <p:cNvPr id="1193" name="Picture 9" descr="Amphora"/>
          <p:cNvPicPr/>
          <p:nvPr/>
        </p:nvPicPr>
        <p:blipFill>
          <a:blip r:embed="rId3"/>
          <a:stretch/>
        </p:blipFill>
        <p:spPr>
          <a:xfrm>
            <a:off x="3851280" y="4581360"/>
            <a:ext cx="1047600" cy="1067040"/>
          </a:xfrm>
          <a:prstGeom prst="rect">
            <a:avLst/>
          </a:prstGeom>
          <a:ln w="0">
            <a:noFill/>
          </a:ln>
        </p:spPr>
      </p:pic>
      <p:pic>
        <p:nvPicPr>
          <p:cNvPr id="1194" name="Picture 11" descr="http://www.enotes.com/w/images/thumb/2/24/Johann_Heinrich_F%C3%BCssli_063.jpg/300px-Johann_Heinrich_F%C3%BCssli_063.jpg"/>
          <p:cNvPicPr/>
          <p:nvPr/>
        </p:nvPicPr>
        <p:blipFill>
          <a:blip r:embed="rId4"/>
          <a:stretch/>
        </p:blipFill>
        <p:spPr>
          <a:xfrm>
            <a:off x="6227640" y="3141720"/>
            <a:ext cx="2314800" cy="3370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Religion</a:t>
            </a:r>
            <a:endParaRPr b="0" lang="en-US" sz="3300" spc="-1" strike="noStrike">
              <a:solidFill>
                <a:srgbClr val="7b9899"/>
              </a:solidFill>
              <a:latin typeface="Georgia"/>
            </a:endParaRPr>
          </a:p>
        </p:txBody>
      </p:sp>
      <p:sp>
        <p:nvSpPr>
          <p:cNvPr id="119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bes had the same religious structure of all the other Greek city-stat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Intellectuals</a:t>
            </a:r>
            <a:endParaRPr b="0" lang="en-US" sz="3300" spc="-1" strike="noStrike">
              <a:solidFill>
                <a:srgbClr val="7b9899"/>
              </a:solidFill>
              <a:latin typeface="Georgia"/>
            </a:endParaRPr>
          </a:p>
        </p:txBody>
      </p:sp>
      <p:sp>
        <p:nvSpPr>
          <p:cNvPr id="119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bes is intertwined in Greek myth and legend, it is the home of many of its stori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Home of King Oedipus, titular character of the famous Greek pla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Also the birth place of Hercules</a:t>
            </a:r>
            <a:endParaRPr b="0" lang="en-US" sz="2700" spc="-1" strike="noStrike">
              <a:solidFill>
                <a:srgbClr val="000000"/>
              </a:solidFill>
              <a:latin typeface="Georgia"/>
            </a:endParaRPr>
          </a:p>
        </p:txBody>
      </p:sp>
      <p:pic>
        <p:nvPicPr>
          <p:cNvPr id="1199" name="Picture 7" descr="http://newsrealblog.com/wp-content/uploads/2010/01/4-Oedipus-Sphinx.jpg"/>
          <p:cNvPicPr/>
          <p:nvPr/>
        </p:nvPicPr>
        <p:blipFill>
          <a:blip r:embed="rId1"/>
          <a:stretch/>
        </p:blipFill>
        <p:spPr>
          <a:xfrm>
            <a:off x="900000" y="4508640"/>
            <a:ext cx="1949400" cy="1954080"/>
          </a:xfrm>
          <a:prstGeom prst="rect">
            <a:avLst/>
          </a:prstGeom>
          <a:ln w="0">
            <a:noFill/>
          </a:ln>
        </p:spPr>
      </p:pic>
      <p:pic>
        <p:nvPicPr>
          <p:cNvPr id="1200" name="Picture 9" descr="http://www.logoi.com/pastimages/img/hercules_2.jpg"/>
          <p:cNvPicPr/>
          <p:nvPr/>
        </p:nvPicPr>
        <p:blipFill>
          <a:blip r:embed="rId2"/>
          <a:stretch/>
        </p:blipFill>
        <p:spPr>
          <a:xfrm>
            <a:off x="6516720" y="3716280"/>
            <a:ext cx="1828800" cy="26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1202"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Franklin Gothic Book"/>
              </a:rPr>
              <a:t>Unique Qualities and Comparison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Troy</a:t>
            </a:r>
            <a:endParaRPr b="0" lang="en-US" sz="3300" spc="-1" strike="noStrike">
              <a:solidFill>
                <a:srgbClr val="7b9899"/>
              </a:solidFill>
              <a:latin typeface="Georgia"/>
            </a:endParaRPr>
          </a:p>
        </p:txBody>
      </p:sp>
      <p:sp>
        <p:nvSpPr>
          <p:cNvPr id="120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For its time, Troy was a great city. It had a large population and covered a large area.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It possessed superior architecture, it was able withstand the assault of the Greeks for ten year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It was mostly uninhabited during the classical age of Greece. It flourished before some of the other city-states existed.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Athens</a:t>
            </a:r>
            <a:endParaRPr b="0" lang="en-US" sz="3300" spc="-1" strike="noStrike">
              <a:solidFill>
                <a:srgbClr val="7b9899"/>
              </a:solidFill>
              <a:latin typeface="Georgia"/>
            </a:endParaRPr>
          </a:p>
        </p:txBody>
      </p:sp>
      <p:sp>
        <p:nvSpPr>
          <p:cNvPr id="120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Athens is most known for it’s intellectual quality. Athens was a city of thought and philosoph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Athens is also said to have been the “leader” of the Greeks, with the Spartans providing military migh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Considered the pinnacle of Greek civilizatio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Sparta</a:t>
            </a:r>
            <a:endParaRPr b="0" lang="en-US" sz="3300" spc="-1" strike="noStrike">
              <a:solidFill>
                <a:srgbClr val="7b9899"/>
              </a:solidFill>
              <a:latin typeface="Georgia"/>
            </a:endParaRPr>
          </a:p>
        </p:txBody>
      </p:sp>
      <p:sp>
        <p:nvSpPr>
          <p:cNvPr id="120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Sparta had a very complex political system. It was part monarchy, part aristocracy, part democracy, part socialist and part military dictatorship.</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Sparta had a very strict hierarchy. Slaves were expendable and were often killed without reaso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Spartans had a very developed sense of culture, dance and song was an integral part of lif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7b9899"/>
                </a:solidFill>
                <a:latin typeface="Georgia"/>
              </a:rPr>
              <a:t>Thebes</a:t>
            </a:r>
            <a:endParaRPr b="0" lang="en-US" sz="3300" spc="-1" strike="noStrike">
              <a:solidFill>
                <a:srgbClr val="7b9899"/>
              </a:solidFill>
              <a:latin typeface="Georgia"/>
            </a:endParaRPr>
          </a:p>
        </p:txBody>
      </p:sp>
      <p:sp>
        <p:nvSpPr>
          <p:cNvPr id="121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bes was very similar to Athens in many way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bes is historically the location of many plays, legends and myth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Georgia"/>
              </a:rPr>
              <a:t>The most unique feature of Thebes is its ever-changing loyalty. They have fought with and against most of the other city stat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457200" y="549000"/>
            <a:ext cx="8229600" cy="557676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Greece - Geography of the Ancient Greek World and Aegean Map." </a:t>
            </a:r>
            <a:r>
              <a:rPr b="0" i="1" lang="en-US" sz="1200" spc="-1" strike="noStrike">
                <a:solidFill>
                  <a:srgbClr val="000000"/>
                </a:solidFill>
                <a:latin typeface="Calibri"/>
              </a:rPr>
              <a:t>Ancient Greece - History, Mythology, Art, War, Culture, Society, and Architecture.</a:t>
            </a:r>
            <a:r>
              <a:rPr b="0" lang="en-US" sz="1200" spc="-1" strike="noStrike">
                <a:solidFill>
                  <a:srgbClr val="000000"/>
                </a:solidFill>
                <a:latin typeface="Calibri"/>
              </a:rPr>
              <a:t> Web. 25 Sept. 2010. &lt;http://www.ancientgreece.com/s/Geography/&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Greek World." </a:t>
            </a:r>
            <a:r>
              <a:rPr b="0" i="1" lang="en-US" sz="1200" spc="-1" strike="noStrike">
                <a:solidFill>
                  <a:srgbClr val="000000"/>
                </a:solidFill>
                <a:latin typeface="Calibri"/>
              </a:rPr>
              <a:t>MCCSC</a:t>
            </a:r>
            <a:r>
              <a:rPr b="0" lang="en-US" sz="1200" spc="-1" strike="noStrike">
                <a:solidFill>
                  <a:srgbClr val="000000"/>
                </a:solidFill>
                <a:latin typeface="Calibri"/>
              </a:rPr>
              <a:t>. Web. 04 Oct. 2010. &lt;http://www.mccsc.edu/~kmcglaun/Greece/citystates.htm&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cient Greeks - the Athenians of Ancient Greece." </a:t>
            </a:r>
            <a:r>
              <a:rPr b="0" i="1" lang="en-US" sz="1200" spc="-1" strike="noStrike">
                <a:solidFill>
                  <a:srgbClr val="000000"/>
                </a:solidFill>
                <a:latin typeface="Calibri"/>
              </a:rPr>
              <a:t>Arrowhead Web Design &amp; Consulting - Web Site Design &amp; Updating, Domain Names, Etc.</a:t>
            </a:r>
            <a:r>
              <a:rPr b="0" lang="en-US" sz="1200" spc="-1" strike="noStrike">
                <a:solidFill>
                  <a:srgbClr val="000000"/>
                </a:solidFill>
                <a:latin typeface="Calibri"/>
              </a:rPr>
              <a:t> Web. 27 Sept. 2010. &lt;http://www.arwhead.com/Greeks/&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hens." </a:t>
            </a:r>
            <a:r>
              <a:rPr b="0" i="1" lang="en-US" sz="1200" spc="-1" strike="noStrike">
                <a:solidFill>
                  <a:srgbClr val="000000"/>
                </a:solidFill>
                <a:latin typeface="Calibri"/>
              </a:rPr>
              <a:t>Wikipedia, the Free Encyclopedia</a:t>
            </a:r>
            <a:r>
              <a:rPr b="0" lang="en-US" sz="1200" spc="-1" strike="noStrike">
                <a:solidFill>
                  <a:srgbClr val="000000"/>
                </a:solidFill>
                <a:latin typeface="Calibri"/>
              </a:rPr>
              <a:t>. Web. 04 Oct. 2010. &lt;http://en.wikipedia.org/wiki/Athens&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Y." </a:t>
            </a:r>
            <a:r>
              <a:rPr b="0" i="1" lang="en-US" sz="1200" spc="-1" strike="noStrike">
                <a:solidFill>
                  <a:srgbClr val="000000"/>
                </a:solidFill>
                <a:latin typeface="Calibri"/>
              </a:rPr>
              <a:t>Oracle ThinkQuest Library</a:t>
            </a:r>
            <a:r>
              <a:rPr b="0" lang="en-US" sz="1200" spc="-1" strike="noStrike">
                <a:solidFill>
                  <a:srgbClr val="000000"/>
                </a:solidFill>
                <a:latin typeface="Calibri"/>
              </a:rPr>
              <a:t>. Web. 26 Sept. 2010. &lt;http://library.thinkquest.org/07aug/01367/geography.htm&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OF SPARTA." </a:t>
            </a:r>
            <a:r>
              <a:rPr b="0" i="1" lang="en-US" sz="1200" spc="-1" strike="noStrike">
                <a:solidFill>
                  <a:srgbClr val="000000"/>
                </a:solidFill>
                <a:latin typeface="Calibri"/>
              </a:rPr>
              <a:t>HistoryWorld - History and Timelines</a:t>
            </a:r>
            <a:r>
              <a:rPr b="0" lang="en-US" sz="1200" spc="-1" strike="noStrike">
                <a:solidFill>
                  <a:srgbClr val="000000"/>
                </a:solidFill>
                <a:latin typeface="Calibri"/>
              </a:rPr>
              <a:t>. Web. 26 Sept. 2010. &lt;http://www.historyworld.net/wrldhis/PlainTextHistories.asp?historyid=ac44&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ta Reconsidered - Spartan Art and Culture." </a:t>
            </a:r>
            <a:r>
              <a:rPr b="0" i="1" lang="en-US" sz="1200" spc="-1" strike="noStrike">
                <a:solidFill>
                  <a:srgbClr val="000000"/>
                </a:solidFill>
                <a:latin typeface="Calibri"/>
              </a:rPr>
              <a:t>Elysium Gates Web Hosting</a:t>
            </a:r>
            <a:r>
              <a:rPr b="0" lang="en-US" sz="1200" spc="-1" strike="noStrike">
                <a:solidFill>
                  <a:srgbClr val="000000"/>
                </a:solidFill>
                <a:latin typeface="Calibri"/>
              </a:rPr>
              <a:t>. Web. 04 Oct. 2010. &lt;http://elysiumgates.com/~helena/Art.html&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ta: Religion." </a:t>
            </a:r>
            <a:r>
              <a:rPr b="0" i="1" lang="en-US" sz="1200" spc="-1" strike="noStrike">
                <a:solidFill>
                  <a:srgbClr val="000000"/>
                </a:solidFill>
                <a:latin typeface="Calibri"/>
              </a:rPr>
              <a:t>Sparta : Journal of Ancient Spartan and Greek History</a:t>
            </a:r>
            <a:r>
              <a:rPr b="0" lang="en-US" sz="1200" spc="-1" strike="noStrike">
                <a:solidFill>
                  <a:srgbClr val="000000"/>
                </a:solidFill>
                <a:latin typeface="Calibri"/>
              </a:rPr>
              <a:t>. Web. 04 Oct. 2010. &lt;http://www.sparta.markoulakispublications.org.uk/index.php?c=Religion&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ta." </a:t>
            </a:r>
            <a:r>
              <a:rPr b="0" i="1" lang="en-US" sz="1200" spc="-1" strike="noStrike">
                <a:solidFill>
                  <a:srgbClr val="000000"/>
                </a:solidFill>
                <a:latin typeface="Calibri"/>
              </a:rPr>
              <a:t>Wikipedia, the Free Encyclopedia</a:t>
            </a:r>
            <a:r>
              <a:rPr b="0" lang="en-US" sz="1200" spc="-1" strike="noStrike">
                <a:solidFill>
                  <a:srgbClr val="000000"/>
                </a:solidFill>
                <a:latin typeface="Calibri"/>
              </a:rPr>
              <a:t>. Web. 04 Oct. 2010. &lt;http://en.wikipedia.org/wiki/Sparta&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tans - Timeline Index." </a:t>
            </a:r>
            <a:r>
              <a:rPr b="0" i="1" lang="en-US" sz="1200" spc="-1" strike="noStrike">
                <a:solidFill>
                  <a:srgbClr val="000000"/>
                </a:solidFill>
                <a:latin typeface="Calibri"/>
              </a:rPr>
              <a:t>Timeline Index - People, Periods, Places, Events...</a:t>
            </a:r>
            <a:r>
              <a:rPr b="0" lang="en-US" sz="1200" spc="-1" strike="noStrike">
                <a:solidFill>
                  <a:srgbClr val="000000"/>
                </a:solidFill>
                <a:latin typeface="Calibri"/>
              </a:rPr>
              <a:t> Web. 25 Sept. 2010. &lt;http://www.timelineindex.com/content/select/1378/912,205,1378&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bes, City of Ancient Greece — Infoplease.com." </a:t>
            </a:r>
            <a:r>
              <a:rPr b="0" i="1" lang="en-US" sz="1200" spc="-1" strike="noStrike">
                <a:solidFill>
                  <a:srgbClr val="000000"/>
                </a:solidFill>
                <a:latin typeface="Calibri"/>
              </a:rPr>
              <a:t>Infoplease: Encyclopedia, Almanac, Atlas, Biographies, Dictionary, Thesaurus. Free Online Reference, Research &amp; Homework Help. — Infoplease.com</a:t>
            </a:r>
            <a:r>
              <a:rPr b="0" lang="en-US" sz="1200" spc="-1" strike="noStrike">
                <a:solidFill>
                  <a:srgbClr val="000000"/>
                </a:solidFill>
                <a:latin typeface="Calibri"/>
              </a:rPr>
              <a:t>. Web. 04 Oct. 2010. &lt;http://www.infoplease.com/ce6/history/A0848374.html&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bes, Greece." </a:t>
            </a:r>
            <a:r>
              <a:rPr b="0" i="1" lang="en-US" sz="1200" spc="-1" strike="noStrike">
                <a:solidFill>
                  <a:srgbClr val="000000"/>
                </a:solidFill>
                <a:latin typeface="Calibri"/>
              </a:rPr>
              <a:t>Wikipedia, the Free Encyclopedia</a:t>
            </a:r>
            <a:r>
              <a:rPr b="0" lang="en-US" sz="1200" spc="-1" strike="noStrike">
                <a:solidFill>
                  <a:srgbClr val="000000"/>
                </a:solidFill>
                <a:latin typeface="Calibri"/>
              </a:rPr>
              <a:t>. Web. 04 Oct. 2010. &lt;http://en.wikipedia.org/wiki/Thebes,_Greece&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bes." </a:t>
            </a:r>
            <a:r>
              <a:rPr b="0" i="1" lang="en-US" sz="1200" spc="-1" strike="noStrike">
                <a:solidFill>
                  <a:srgbClr val="000000"/>
                </a:solidFill>
                <a:latin typeface="Calibri"/>
              </a:rPr>
              <a:t>The Redirector</a:t>
            </a:r>
            <a:r>
              <a:rPr b="0" lang="en-US" sz="1200" spc="-1" strike="noStrike">
                <a:solidFill>
                  <a:srgbClr val="000000"/>
                </a:solidFill>
                <a:latin typeface="Calibri"/>
              </a:rPr>
              <a:t>. Web. 04 Oct. 2010. &lt;http://www.sikyon.com/thebes/thebes_eg.html&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line of Athenian Hisory." </a:t>
            </a:r>
            <a:r>
              <a:rPr b="0" i="1" lang="en-US" sz="1200" spc="-1" strike="noStrike">
                <a:solidFill>
                  <a:srgbClr val="000000"/>
                </a:solidFill>
                <a:latin typeface="Calibri"/>
              </a:rPr>
              <a:t>Untitled Document</a:t>
            </a:r>
            <a:r>
              <a:rPr b="0" lang="en-US" sz="1200" spc="-1" strike="noStrike">
                <a:solidFill>
                  <a:srgbClr val="000000"/>
                </a:solidFill>
                <a:latin typeface="Calibri"/>
              </a:rPr>
              <a:t>. Web. 25 Sept. 2010. &lt;http://www.historylink102.com/greece3/timeline-athens-history.htm&gt;. </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y." </a:t>
            </a:r>
            <a:r>
              <a:rPr b="0" i="1" lang="en-US" sz="1200" spc="-1" strike="noStrike">
                <a:solidFill>
                  <a:srgbClr val="000000"/>
                </a:solidFill>
                <a:latin typeface="Calibri"/>
              </a:rPr>
              <a:t>Wikipedia, the Free Encyclopedia</a:t>
            </a:r>
            <a:r>
              <a:rPr b="0" lang="en-US" sz="1200" spc="-1" strike="noStrike">
                <a:solidFill>
                  <a:srgbClr val="000000"/>
                </a:solidFill>
                <a:latin typeface="Calibri"/>
              </a:rPr>
              <a:t>. Web. 04 Oct. 2010. &lt;http://en.wikipedia.org/wiki/Troy&g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olitical Structure</a:t>
            </a:r>
            <a:endParaRPr b="0" lang="en-US" sz="3300" spc="-1" strike="noStrike">
              <a:solidFill>
                <a:srgbClr val="7b9899"/>
              </a:solidFill>
              <a:latin typeface="Georgia"/>
            </a:endParaRPr>
          </a:p>
        </p:txBody>
      </p:sp>
      <p:sp>
        <p:nvSpPr>
          <p:cNvPr id="1121"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narch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as under Roman rule for a tim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conomic and Social Systems</a:t>
            </a:r>
            <a:endParaRPr b="0" lang="en-US" sz="3300" spc="-1" strike="noStrike">
              <a:solidFill>
                <a:srgbClr val="7b9899"/>
              </a:solidFill>
              <a:latin typeface="Georgia"/>
            </a:endParaRPr>
          </a:p>
        </p:txBody>
      </p:sp>
      <p:sp>
        <p:nvSpPr>
          <p:cNvPr id="1123"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ad an economy which was reliant on coi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124" name="Picture 3" descr="270px-Tetradrachm_from_Troy.jpg"/>
          <p:cNvPicPr/>
          <p:nvPr/>
        </p:nvPicPr>
        <p:blipFill>
          <a:blip r:embed="rId1"/>
          <a:stretch/>
        </p:blipFill>
        <p:spPr>
          <a:xfrm>
            <a:off x="755640" y="2637000"/>
            <a:ext cx="651204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rt, Architecture, Science and Technology</a:t>
            </a:r>
            <a:endParaRPr b="0" lang="en-US" sz="3300" spc="-1" strike="noStrike">
              <a:solidFill>
                <a:srgbClr val="7b9899"/>
              </a:solidFill>
              <a:latin typeface="Georgia"/>
            </a:endParaRPr>
          </a:p>
        </p:txBody>
      </p:sp>
      <p:sp>
        <p:nvSpPr>
          <p:cNvPr id="112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7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Pottery</a:t>
            </a:r>
            <a:endParaRPr b="0" lang="en-US" sz="2900" spc="-1" strike="noStrike">
              <a:solidFill>
                <a:srgbClr val="000000"/>
              </a:solidFill>
              <a:latin typeface="Georgia"/>
            </a:endParaRPr>
          </a:p>
          <a:p>
            <a:pPr marL="272880" indent="-272880">
              <a:spcBef>
                <a:spcPts val="72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Stone</a:t>
            </a:r>
            <a:endParaRPr b="0" lang="en-US" sz="29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Revolutionized citadels and defenses</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1127" name="Picture 3" descr="220PX-~1.JPG"/>
          <p:cNvPicPr/>
          <p:nvPr/>
        </p:nvPicPr>
        <p:blipFill>
          <a:blip r:embed="rId1"/>
          <a:stretch/>
        </p:blipFill>
        <p:spPr>
          <a:xfrm>
            <a:off x="4211640" y="3159000"/>
            <a:ext cx="4932360" cy="3699000"/>
          </a:xfrm>
          <a:prstGeom prst="rect">
            <a:avLst/>
          </a:prstGeom>
          <a:ln w="0">
            <a:noFill/>
          </a:ln>
        </p:spPr>
      </p:pic>
      <p:pic>
        <p:nvPicPr>
          <p:cNvPr id="1128" name="Picture 4" descr="untitled.bmp"/>
          <p:cNvPicPr/>
          <p:nvPr/>
        </p:nvPicPr>
        <p:blipFill>
          <a:blip r:embed="rId2"/>
          <a:stretch/>
        </p:blipFill>
        <p:spPr>
          <a:xfrm>
            <a:off x="0" y="3141720"/>
            <a:ext cx="4284720" cy="371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ligion</a:t>
            </a:r>
            <a:endParaRPr b="0" lang="en-US" sz="3300" spc="-1" strike="noStrike">
              <a:solidFill>
                <a:srgbClr val="7b9899"/>
              </a:solidFill>
              <a:latin typeface="Georgia"/>
            </a:endParaRPr>
          </a:p>
        </p:txBody>
      </p:sp>
      <p:sp>
        <p:nvSpPr>
          <p:cNvPr id="113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olytheistic</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elieved in afterlife</a:t>
            </a:r>
            <a:endParaRPr b="0" lang="en-US" sz="2700" spc="-1" strike="noStrike">
              <a:solidFill>
                <a:srgbClr val="000000"/>
              </a:solidFill>
              <a:latin typeface="Georgia"/>
            </a:endParaRPr>
          </a:p>
        </p:txBody>
      </p:sp>
      <p:pic>
        <p:nvPicPr>
          <p:cNvPr id="1131" name="Picture 5" descr="Reconstruction of Troy II"/>
          <p:cNvPicPr/>
          <p:nvPr/>
        </p:nvPicPr>
        <p:blipFill>
          <a:blip r:embed="rId1"/>
          <a:stretch/>
        </p:blipFill>
        <p:spPr>
          <a:xfrm>
            <a:off x="3708360" y="3141720"/>
            <a:ext cx="4762440" cy="340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6464"/>
              </a:solidFill>
              <a:latin typeface="Perpetua"/>
            </a:endParaRPr>
          </a:p>
        </p:txBody>
      </p:sp>
      <p:sp>
        <p:nvSpPr>
          <p:cNvPr id="1133"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Franklin Gothic Book"/>
              </a:rPr>
              <a:t>Athens</a:t>
            </a:r>
            <a:endParaRPr b="0" lang="en-US" sz="72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ime Period</a:t>
            </a:r>
            <a:endParaRPr b="0" lang="en-US" sz="3300" spc="-1" strike="noStrike">
              <a:solidFill>
                <a:srgbClr val="7b9899"/>
              </a:solidFill>
              <a:latin typeface="Georgia"/>
            </a:endParaRPr>
          </a:p>
        </p:txBody>
      </p:sp>
      <p:sp>
        <p:nvSpPr>
          <p:cNvPr id="1135"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ity founded between 4500-3000 B.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plomatic reforms started around 594 B.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nder Macedonian rule 339-168 B.C.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nder Roman control between 168 B.C.E to 330 A.D.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9:07:16Z</dcterms:created>
  <dc:creator>Administrator</dc:creator>
  <dc:description/>
  <dc:language>en-US</dc:language>
  <cp:lastModifiedBy>Profile</cp:lastModifiedBy>
  <dcterms:modified xsi:type="dcterms:W3CDTF">2010-10-12T00:10:48Z</dcterms:modified>
  <cp:revision>16</cp:revision>
  <dc:subject/>
  <dc:title>Troy</dc:title>
</cp:coreProperties>
</file>